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C353-72F4-4A65-9E1F-8C6D2B0A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F185-0858-4C8B-9F00-A7EFAA76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320F-DEB0-4CD7-8BD9-419A2ED3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7585-96D1-4C30-85E4-0471DE9E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B090-2AD7-4F34-9E20-2B87FDD6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F828-E3A3-488C-8C97-6791D448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8515-D95E-4571-847B-8AA8A972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1E19-92D2-4975-8E03-B1774617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D469-9F10-4FE9-B7AF-A29419DF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BB44-E7AE-4DA4-A37E-A31A77A3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EC61-0710-4FE8-8D1E-4564540A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DDD3-C624-456C-AA69-49B1D950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F65B-9301-4A15-9979-78A82674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5345-9A48-42CA-8D66-4BD8D559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AEFC-5633-4470-B6A5-66F1F049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43B6-B7E7-48E0-9859-3D854356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7494-2663-4775-8817-C09252CEE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4DC1-6B83-48C0-BC84-B9869323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CEB9-77A0-4F5F-82F6-AC647594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A5C0-6750-4A3F-9F97-D739BEF4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CC3E-80B4-4A01-880A-271690BD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9B48-767E-4875-A9B7-9232DEC2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3843-508F-4CC8-B0EB-B0DC37F2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9764-55AE-4E81-A336-8370B88C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5473-E152-49A2-87F0-5AFEEBBB94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87BD-BCE5-418D-BA6F-B3D5A4158A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Основы логик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7238880" cy="3962160"/>
          </a:xfrm>
          <a:prstGeom prst="rect">
            <a:avLst/>
          </a:prstGeom>
          <a:solidFill>
            <a:srgbClr val="9d9c81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614020"/>
            </a:outerShdw>
          </a:effectLst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 Narrow"/>
              </a:rPr>
              <a:t>Автор: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ергее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Евгений Викторович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ОУ СОШ №4 г. Миньяр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Челябинской област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rgeev73@mail.ru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shk4-minyar.ucoz.ru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: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«Буква «А» – гласная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стин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: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«Компьютер был изобретен в середине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XIX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века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ж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Сложные высказы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остые высказывания могут быть объединены в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сложны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с помощью союзов «и» или «или», с помощью частицы «не» и др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стинность высказыван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Простых: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результате соглашений на основе здравого смысл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Сложных: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результате вычислений по формулам алгебры высказыва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Упражнен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Какой длины эта лента?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Прослушайте сообщение!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Делайте утреннюю зарядку!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Назовите устройства ввода/вывода информации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Кто отсутствует?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Париж – столица Англии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Число 11 является простым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4 + 5 = 10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Без труда не вытащишь и рыбку из пруда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Некоторые медведи живут на севере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Все медведи – бурые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Чему равно расстояние от Москвы до Питера?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Умозаключения 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Умозаключения – это форма мышления, с помощью которой из одного или нескольких высказываний (посылок) может быть получено новое суждение (заключение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сылками могут быть только истинные высказывания, иначе заключение может быть ложным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ано высказывание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«Все углы равнобедренного треугольника равны»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лучить высказывани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«Этот треугольник – равносторонний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тем умозаключе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Решен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се углы равны,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то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качестве основания можно выбрать любую сторону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сть основание – сторон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огд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сть основание – сторон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огда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ледовательно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Треугольник равносторон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к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гика – наука о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формах мышл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, учение о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пособах рассуждений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оказательств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гика позволяет строить абстрактные модели реальных объектов, не отвлекаясь на их содержание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ка, как наук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ервые учения о способах и формах мышления, рассуждений и доказательств зародились на Древнем Востоке (Индия и Китай)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сновоположник современной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формальной логик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Аристотель, т.к. он впервые отделил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форму мышл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от его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одержа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Формы мышле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ышление осуществляется через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понят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высказыва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суждения, утверждения) и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умозаключ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онят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Понят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форма мышления, фиксирующая основные существенные признаки объекта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меет две стороны: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одержан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объе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01800"/>
                </a:solidFill>
                <a:latin typeface="Arial Narrow"/>
              </a:rPr>
              <a:t>Содержание </a:t>
            </a: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и</a:t>
            </a:r>
            <a:r>
              <a:rPr b="1" i="1" lang="ru-RU" sz="4400" spc="-1" strike="noStrike">
                <a:solidFill>
                  <a:srgbClr val="301800"/>
                </a:solidFill>
                <a:latin typeface="Arial Narrow"/>
              </a:rPr>
              <a:t> объем</a:t>
            </a: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 понятия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держание понятия составляет совокупность существенных признаков объекта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Для раскрытия содержания понятия необходимо и достаточно перечислить все качества объекта, по которым его можно однозначно идентифицировать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ъем понятия – количество объектов, на которое распространяются указанные свойств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держание понятия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мпьютер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ройство для автоматизированной обработки информаци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строено на основе микропроцессор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меет устройства ввода/вывод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ъем понятия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мпьютер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иллиарды единиц компьютерной техники по всему миру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Высказывание 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Форма мышления, выражающая формулировку своего понимания мира, в котором либо что-то утверждается, либо отрицается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троится на основе понятий и выражае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только повествовательным предложение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Высказывание может быть либо истинным, либо ложным 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Если связь понятий, на которых построено высказывание, правильно отражают свойства и отношения реальных вещей, то такое высказывание истин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, противоречащее реальной действительности – ложно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ев Евгений</cp:lastModifiedBy>
  <dcterms:modified xsi:type="dcterms:W3CDTF">2010-09-29T14:50:2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